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8567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7D4-327F-48CD-B0C8-45A0CCEF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6CA-CC29-4463-80B4-BB301B3E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CDE-E659-4A57-9554-F0ABD52E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F98-1B71-4167-87FA-843C5013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37B-40E9-4C4E-87EB-038BD479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DFB-885E-4058-96B6-F125E0C4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F30-C5D4-46AA-B8A3-E5A97D0D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5F2-2C3F-4213-8589-A2579E3B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0EB-53C0-4AE4-B795-95662070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5F3-1FED-4AC0-90D9-4A2B7E7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1BD-3262-46C8-9A14-1576CD0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1CE-E884-487C-94B9-9FF4C26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AC51732A-B396-4BB0-898B-31665C4FEFA7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2n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 and Introduction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7315200" y="6019920"/>
            <a:ext cx="1828800" cy="838080"/>
            <a:chOff x="7315200" y="6019920"/>
            <a:chExt cx="1828800" cy="838080"/>
          </a:xfrm>
        </p:grpSpPr>
        <p:sp>
          <p:nvSpPr>
            <p:cNvPr id="103" name=""/>
            <p:cNvSpPr/>
            <p:nvPr/>
          </p:nvSpPr>
          <p:spPr>
            <a:xfrm>
              <a:off x="7391520" y="6019920"/>
              <a:ext cx="1752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5200" y="6477120"/>
              <a:ext cx="1720800" cy="25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Time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3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078-21F9-47F7-9811-5652F52AE7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Upd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ndum to the Consortium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ed by all partners and currently in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to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of Period 1 fu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Distribution (85%, early in the pro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of Period 1 (15%, mid-M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2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iting information from the 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will distribute 85% in early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BB8-89E6-4233-8EF4-6BCF1D66B9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nges to finances- SURFne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and ASTRON will be changing some of their financing.  Both organizations will push their SA2 budget directly to SURFnet.  SURFnet has agreed to th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was doing the actual work and expending the money; both JIVE and ASTRON were essentially "men in the middle."  This is due to the fact that SURFnet is both a partner and our N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is providing a great deal of support and work for the project.  This is not evident from a pure financial analysis.  We hope that this change will even some of their partic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otal, SURFnet will receive 28,000 EUR from JIVE and ASTR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78B-BB50-4C8D-A38E-9E718FBCA4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0DC-7481-48FF-B19F-B0AE576A69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ex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h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E1A-5005-4482-A975-58DD6C4D7A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genda- General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.30 - 08.4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/Welcome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.45 - 09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/Changes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00 - 09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y Annual Review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30 - 09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/ NA4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.50 - 10.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&lt;J. Conwa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05 - 10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&lt;J. Chev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20 - 10.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 WP1 &lt;R. Spenc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40 - 11.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10 - 11.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 WP2 &lt;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40 - 12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&lt;A. Szomoru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00 - 12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&lt;F. Colom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20 - 13.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20 - 14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es + discussion + audit &lt;Yun/H.J. van Langevel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30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Board meeting &lt;A. Mujun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77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up/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066-DD73-402D-8BF8-116D4F542B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dministrivia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s taken by Diana van D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 to be requ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accepted via email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ts in the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w/r/t leaving the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01A-8E35-46F5-8453-42C4122562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x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Obta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represented by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this in as we learn mo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B15-3A09-48FC-9F54-FC774AC1C7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oru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may validly mee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-thirds (2/3) of its members ar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repres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Partners, 13 individuals make 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ance/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F18-CB47-4E08-9537-010FAF6154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 March – Project Star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May – Month 15 (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 March – Project Completion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Quar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1: March, April,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2: June, July,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3: September, October, Nov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 4: December, January, Febr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FF9-2C73-411F-B0CE-606382B4AD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Chang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shall appoin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ail was sent at the beginning of the calendar year indicating that Huib Jan van Langevelde would be the interim Coordinator for EXP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Non-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man and Vice-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for upcoming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691-7F8E-4C1C-826E-81717FF437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anagement Organo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7925040" cy="5138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233-3DCB-45DA-858E-9443F396EB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. Charles Yun</cp:lastModifiedBy>
  <dcterms:modified xsi:type="dcterms:W3CDTF">2007-05-18T09:23:19Z</dcterms:modified>
  <cp:revision>112</cp:revision>
  <dc:subject/>
  <dc:title>Slide 1</dc:title>
</cp:coreProperties>
</file>